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60B-AD4F-4DD0-A3B1-3A8C84B1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6A1-6E09-486F-8C0E-F6170E2E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79E-50FA-4962-BA57-5DDE5D3A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9273-3948-40F9-BDC8-C678BA73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3E7-6402-40AB-8AF1-4B198FA3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0BD-0EA7-4148-A5D7-AE707459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AB87-311E-4722-AB22-8C070D0F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A39-8261-4246-B365-4DAE4F17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F00-1DE8-4B08-8AD3-8F8A838B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57D-C0A4-4BDA-89CE-DB03D7AD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70B-4B42-4486-9561-D7F2D11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5FD-762C-493A-BA63-8FDB152B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51F8-5573-4757-BD7C-35EC9FF8CA2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avior of W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fraction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fraction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bending on oblique entry due to change in medium (different speeds of propagation and different waveleng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85800" y="1606680"/>
          <a:ext cx="777240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6680"/>
                    <a:ext cx="777240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efle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1371600" y="1981080"/>
          <a:ext cx="6458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458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14400"/>
                    <a:ext cx="69343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iffra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685800" y="2278080"/>
          <a:ext cx="777240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8080"/>
                    <a:ext cx="777240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1295280" y="1279440"/>
          <a:ext cx="716292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79440"/>
                    <a:ext cx="716292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terference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s when 2 waves are superimpo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two or more waves travel simultaneously through the same medium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proceeds independently  as though no other waves are pres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276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sultant displacement of any particle at a given time; is the vector sum of the displacements that the individual waves acting alone would give it.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447920" y="3809880"/>
          <a:ext cx="61722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809880"/>
                    <a:ext cx="61722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structive Interferenc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two waves are “in phase” and crests will show additive effects (extra tall) as will troughs (extra dee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Destructive Interferenc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– two waves are “in opposite phase” and will cancel each other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e diagrams pg. 3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02:29:11Z</dcterms:created>
  <dc:creator>Chantal Burns</dc:creator>
  <dc:description/>
  <dc:language>en-US</dc:language>
  <cp:lastModifiedBy>Administrator</cp:lastModifiedBy>
  <dcterms:modified xsi:type="dcterms:W3CDTF">2010-12-13T17:11:20Z</dcterms:modified>
  <cp:revision>10</cp:revision>
  <dc:subject/>
  <dc:title>Behavior of Waves</dc:title>
</cp:coreProperties>
</file>